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5.gif" ContentType="image/gif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19A-E6CA-40D3-9177-8FA0FCB0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842-339A-4D64-9A9E-47C9CE06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82C-00BB-4F02-9331-736F73F1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BF2-0E7F-4305-B01B-50B5B7D8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1020-BF18-4E6C-880D-B876C96D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905E-8315-4558-8D53-C0705F1C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97A9-697C-45E3-B1AC-99305523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547-2D01-4179-B69A-C948EE7F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DDAC-35B8-433E-91F8-8FEC9898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BECF-2B96-4000-96BF-B5449A62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069A-7B01-46AF-AD3A-81DB2AA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AA0-19FC-4D2A-8F4E-EAC8EF38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F29-256A-476A-BF04-10D5345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177C-592E-42B6-8CFD-4B94E2BD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74A9-F27F-4DB2-A642-4C1B7B0D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82E5-6471-4A51-B905-8BE174F2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072A-97C1-43BA-9F08-9FE4D30E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9B3-4286-4D32-898F-DF9A355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CDF-C3B7-4678-B78F-AEE19CEF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E3C-D360-4578-91EB-6698CA89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0AC-E267-4B37-8F2A-13A2F021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045-FD83-4F9C-B72D-2DD120E2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1AD-3F24-432A-B3B1-72FC7E9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5DE-EEA7-4E33-B490-D2E145C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A013-2CC7-4B33-8808-92E6332B4A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B530-BED2-4DC2-B926-3F2FB7B32A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914400" y="7621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oper Black"/>
              </a:rPr>
              <a:t>The Cell Cycl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oper Black"/>
              <a:ea typeface="Cooper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066680" y="3505320"/>
            <a:ext cx="2438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ell cycle diagram"/>
          <p:cNvPicPr/>
          <p:nvPr/>
        </p:nvPicPr>
        <p:blipFill>
          <a:blip r:embed="rId1"/>
          <a:stretch/>
        </p:blipFill>
        <p:spPr>
          <a:xfrm>
            <a:off x="3962520" y="2549520"/>
            <a:ext cx="3809880" cy="34131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609480" y="31716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bers dis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tids unwind and stretch to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clear membrane forms around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chromatin, splitting the cytoplasm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two separat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nterkinesis will follow, which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telo1"/>
          <p:cNvPicPr/>
          <p:nvPr/>
        </p:nvPicPr>
        <p:blipFill>
          <a:blip r:embed="rId1"/>
          <a:stretch/>
        </p:blipFill>
        <p:spPr>
          <a:xfrm>
            <a:off x="3505320" y="36576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2"/>
          <p:cNvSpPr txBox="1"/>
          <p:nvPr/>
        </p:nvSpPr>
        <p:spPr>
          <a:xfrm rot="5400000">
            <a:off x="4800240" y="289548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TELO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838080" y="441972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ranes forming, showing the division of the cytopla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228600" y="0"/>
            <a:ext cx="6324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urlz MT"/>
              </a:rPr>
              <a:t>Cytokine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urlz MT"/>
              <a:ea typeface="Curlz MT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8120" y="1904040"/>
            <a:ext cx="57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sion of the cytoplasm of a parent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cell pinches together in the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each daughter cell gets identical se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, the cytoplasm and organelles are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divided equally between the two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248520" y="4114800"/>
            <a:ext cx="144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STAGE OF M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cytani"/>
          <p:cNvPicPr/>
          <p:nvPr/>
        </p:nvPicPr>
        <p:blipFill>
          <a:blip r:embed="rId1"/>
          <a:stretch/>
        </p:blipFill>
        <p:spPr>
          <a:xfrm>
            <a:off x="228600" y="3886200"/>
            <a:ext cx="4724280" cy="2765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2"/>
          <p:cNvSpPr/>
          <p:nvPr/>
        </p:nvSpPr>
        <p:spPr>
          <a:xfrm>
            <a:off x="228600" y="3200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events occurring in cytoki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5"/>
          <p:cNvSpPr txBox="1"/>
          <p:nvPr/>
        </p:nvSpPr>
        <p:spPr>
          <a:xfrm>
            <a:off x="838080" y="304920"/>
            <a:ext cx="7391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Conclu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990720" y="1981080"/>
            <a:ext cx="68580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in this presentation was the cell cycle in detail.  It was learned that the steps within this cycle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1 phase - energy consum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phase - DNA dupli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 Phase - growth and energy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qual division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hase - 2 centrosome move to opposite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phase - chromosomes move to equator of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phase - fibers separate to opposite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ophase - nuclear membrane forms around the 2 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kinesis - division of the cytoplasm and orga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371600" y="152280"/>
            <a:ext cx="6095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urlz MT"/>
              </a:rPr>
              <a:t>Works Cite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" y="1371600"/>
            <a:ext cx="8153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ells and the Cell Cycle - Day 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2003.  Desert Vista High School.  2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3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staff.tuhsd.k12.az.us/gfoster/standard/bcell2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ell Cycle Regul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2003.  University of Pennsylvani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www.geocities.com/CollegePark/Lab/1580/cycle.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taphase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1997.  North Carolina State Universi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www4.ncsu.edu/unity/users/b/bnchorle/www/metai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aphase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1997.  North Carolina State Universi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www4.ncsu.edu/unity/users/b/bnchorle/www/anai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lophase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1997.  North Carolina State Universi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http://www4.ncsu.edu/unity/users/b/bnchorle/www/teloi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1999.  The University of Manchester &lt;http://www.teaching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med.man.ac.uk/ramsay/Cytok.ht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304920" y="1522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oper Black"/>
              </a:rPr>
              <a:t>OVERVIEW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80880" y="1981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57200" y="52578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presentation, all of the phases of the cell cycle will be covered. The order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791320" y="990720"/>
            <a:ext cx="25905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ycle2"/>
          <p:cNvPicPr/>
          <p:nvPr/>
        </p:nvPicPr>
        <p:blipFill>
          <a:blip r:embed="rId1"/>
          <a:stretch/>
        </p:blipFill>
        <p:spPr>
          <a:xfrm>
            <a:off x="228600" y="914400"/>
            <a:ext cx="5907240" cy="4343400"/>
          </a:xfrm>
          <a:prstGeom prst="rect">
            <a:avLst/>
          </a:prstGeom>
          <a:ln w="0">
            <a:noFill/>
          </a:ln>
        </p:spPr>
      </p:pic>
    </p:spTree>
  </p:cSld>
  <p:transition advTm="22000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3505320" y="533520"/>
            <a:ext cx="4643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oper Black"/>
              </a:rPr>
              <a:t>G1 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oper Black"/>
              <a:ea typeface="Cooper Black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29718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Inter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tion of two daughter cells from a parent cell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nkinesis is an energy-consuming process.  The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by the new cells to replenish their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is “ga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ell energy reserves are restored, the daugh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begin to g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longest phase of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phase1"/>
          <p:cNvPicPr/>
          <p:nvPr/>
        </p:nvPicPr>
        <p:blipFill>
          <a:blip r:embed="rId1"/>
          <a:stretch/>
        </p:blipFill>
        <p:spPr>
          <a:xfrm>
            <a:off x="533520" y="609480"/>
            <a:ext cx="2286000" cy="1532160"/>
          </a:xfrm>
          <a:prstGeom prst="rect">
            <a:avLst/>
          </a:prstGeom>
          <a:ln w="0">
            <a:noFill/>
          </a:ln>
        </p:spPr>
      </p:pic>
    </p:spTree>
  </p:cSld>
  <p:transition advTm="25000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3"/>
          <p:cNvSpPr txBox="1"/>
          <p:nvPr/>
        </p:nvSpPr>
        <p:spPr>
          <a:xfrm rot="5400000">
            <a:off x="-2288520" y="2745720"/>
            <a:ext cx="6019920" cy="985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Cooper Black"/>
              </a:rPr>
              <a:t>S Phas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2286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means to ma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period of growth, each cell's original D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uplicated in the process of replication 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duplicating the DNA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60020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HASE IS ALSO KNOWN AS THE SYNTHESIS PHASE OR DNA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DNA condenses into Chromosomes"/>
          <p:cNvPicPr/>
          <p:nvPr/>
        </p:nvPicPr>
        <p:blipFill>
          <a:blip r:embed="rId3"/>
          <a:stretch/>
        </p:blipFill>
        <p:spPr>
          <a:xfrm>
            <a:off x="7162920" y="2286000"/>
            <a:ext cx="1355760" cy="331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hromos"/>
          <p:cNvPicPr/>
          <p:nvPr/>
        </p:nvPicPr>
        <p:blipFill>
          <a:blip r:embed="rId4"/>
          <a:stretch/>
        </p:blipFill>
        <p:spPr>
          <a:xfrm>
            <a:off x="1905120" y="2895480"/>
            <a:ext cx="1960560" cy="1940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1911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114800" y="3200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chromosome that is found in the cell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3124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lication of DNA is another energy-consum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cell. The time taken by a cell to build up its energ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s produces this second "gap"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33520" y="5029200"/>
            <a:ext cx="8001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urlz MT"/>
              </a:rPr>
              <a:t>G2 Phas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380880"/>
            <a:ext cx="5943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e G2 Phase, the cell ag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goes growth and protein sy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ause it needs enough proteins for th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s it will split into, priming it to be abl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. Once this is complete, and has g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many checkpoints along the way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 finally enters the fourth and final phas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ell cycle.  This phase is known as the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itosis)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80905675"/>
          <p:cNvPicPr/>
          <p:nvPr/>
        </p:nvPicPr>
        <p:blipFill>
          <a:blip r:embed="rId1"/>
          <a:stretch/>
        </p:blipFill>
        <p:spPr>
          <a:xfrm>
            <a:off x="7391520" y="30492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 rot="1258800">
            <a:off x="7086240" y="761760"/>
            <a:ext cx="442800" cy="147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057400" y="990720"/>
            <a:ext cx="45626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504d"/>
                </a:solidFill>
                <a:latin typeface="Curlz MT"/>
              </a:rPr>
              <a:t>Mito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504d"/>
              </a:solidFill>
              <a:latin typeface="Curlz MT"/>
              <a:ea typeface="Curlz M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osis is the process by which DNA is divided into two identical daughter sets before the cell div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stages that occur before the cell is completely split apart. 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Meta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rophase"/>
          <p:cNvPicPr/>
          <p:nvPr/>
        </p:nvPicPr>
        <p:blipFill>
          <a:blip r:embed="rId1"/>
          <a:stretch/>
        </p:blipFill>
        <p:spPr>
          <a:xfrm>
            <a:off x="1600200" y="46483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etaphase"/>
          <p:cNvPicPr/>
          <p:nvPr/>
        </p:nvPicPr>
        <p:blipFill>
          <a:blip r:embed="rId2"/>
          <a:stretch/>
        </p:blipFill>
        <p:spPr>
          <a:xfrm>
            <a:off x="3352680" y="49528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anaphase"/>
          <p:cNvPicPr/>
          <p:nvPr/>
        </p:nvPicPr>
        <p:blipFill>
          <a:blip r:embed="rId3"/>
          <a:stretch/>
        </p:blipFill>
        <p:spPr>
          <a:xfrm>
            <a:off x="5334120" y="46483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elophase"/>
          <p:cNvPicPr/>
          <p:nvPr/>
        </p:nvPicPr>
        <p:blipFill>
          <a:blip r:embed="rId4"/>
          <a:stretch/>
        </p:blipFill>
        <p:spPr>
          <a:xfrm>
            <a:off x="6858000" y="4952880"/>
            <a:ext cx="1143000" cy="1028880"/>
          </a:xfrm>
          <a:prstGeom prst="rect">
            <a:avLst/>
          </a:prstGeom>
          <a:ln w="0">
            <a:noFill/>
          </a:ln>
        </p:spPr>
      </p:pic>
    </p:spTree>
  </p:cSld>
  <p:transition advTm="16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523880" y="1828800"/>
            <a:ext cx="70866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prophase: chromatin coils to form chromesom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membrane disappears, and centrioles migrat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site pol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dle prophase: spindle fibers, microtubules of prote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 develo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 fibers extend across the cell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iole to centri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etiochore fibers exten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omeres of a chromosome to the centr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 prophase: protein fibers called as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ate from each centriole in animal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228600" y="15228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urlz MT"/>
              </a:rPr>
              <a:t>Pro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urlz MT"/>
              <a:ea typeface="Curlz MT"/>
            </a:endParaRPr>
          </a:p>
        </p:txBody>
      </p:sp>
      <p:pic>
        <p:nvPicPr>
          <p:cNvPr id="113" name="Picture 8" descr="phase2"/>
          <p:cNvPicPr/>
          <p:nvPr/>
        </p:nvPicPr>
        <p:blipFill>
          <a:blip r:embed="rId1"/>
          <a:stretch/>
        </p:blipFill>
        <p:spPr>
          <a:xfrm>
            <a:off x="380880" y="4267080"/>
            <a:ext cx="2133720" cy="1471680"/>
          </a:xfrm>
          <a:prstGeom prst="rect">
            <a:avLst/>
          </a:prstGeom>
          <a:ln w="0">
            <a:noFill/>
          </a:ln>
        </p:spPr>
      </p:pic>
    </p:spTree>
  </p:cSld>
  <p:transition advTm="55000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905120" y="2880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phase, kinetochore fibers move the chromos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equator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3"/>
          <p:cNvSpPr txBox="1"/>
          <p:nvPr/>
        </p:nvSpPr>
        <p:spPr>
          <a:xfrm rot="5400000">
            <a:off x="-2247840" y="2705040"/>
            <a:ext cx="63244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6" name="Picture 7" descr="spin"/>
          <p:cNvPicPr/>
          <p:nvPr/>
        </p:nvPicPr>
        <p:blipFill>
          <a:blip r:embed="rId1"/>
          <a:stretch/>
        </p:blipFill>
        <p:spPr>
          <a:xfrm>
            <a:off x="2133720" y="12952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905120" y="3808800"/>
            <a:ext cx="7238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hromosome has reached its maximum dens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omologous pairs and their sister chromatids inter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ibers which form from either side of the nucl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elope of the cell.  These fibers are procude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.  There is a centriole at the opposite end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romosomes are then lined by the fibers at wha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as the metacentric plate, which is located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638680" y="19051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taking place during meta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8000"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4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1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5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6"/>
          <p:cNvSpPr txBox="1"/>
          <p:nvPr/>
        </p:nvSpPr>
        <p:spPr>
          <a:xfrm>
            <a:off x="228600" y="533412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urlz MT"/>
              </a:rPr>
              <a:t>Anap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urlz MT"/>
              <a:ea typeface="Curlz MT"/>
            </a:endParaRPr>
          </a:p>
        </p:txBody>
      </p:sp>
      <p:pic>
        <p:nvPicPr>
          <p:cNvPr id="120" name="Picture 11" descr="anaphasei"/>
          <p:cNvPicPr/>
          <p:nvPr/>
        </p:nvPicPr>
        <p:blipFill>
          <a:blip r:embed="rId3"/>
          <a:stretch/>
        </p:blipFill>
        <p:spPr>
          <a:xfrm>
            <a:off x="762120" y="213372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5"/>
          <p:cNvSpPr/>
          <p:nvPr/>
        </p:nvSpPr>
        <p:spPr>
          <a:xfrm>
            <a:off x="4648320" y="533520"/>
            <a:ext cx="419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s apart the tetr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ng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logous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ntromere of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of chromatids div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romatids sepa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 pushed to oppo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es of the cell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effort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s, all in one qu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838080" y="685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143000" y="1219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paration of the fibers to opposite p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42:51Z</dcterms:created>
  <dc:creator>commons</dc:creator>
  <dc:description/>
  <dc:language>en-US</dc:language>
  <cp:lastModifiedBy>Morgan karas</cp:lastModifiedBy>
  <dcterms:modified xsi:type="dcterms:W3CDTF">2010-12-06T18:30:21Z</dcterms:modified>
  <cp:revision>44</cp:revision>
  <dc:subject/>
  <dc:title>PowerPoint Presentation</dc:title>
</cp:coreProperties>
</file>